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DCEC-F2F7-4DA9-BD66-12323436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7D52-6EB6-490B-BA89-2D2E5CB3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F15D-AA82-428C-AA68-AA54A89A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F47-D33E-4F59-8CC0-5774960D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929-AFC8-4758-B81A-032D5CB6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BC5-4923-4C20-B59B-7667348A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0B26-9089-4BF0-A993-7D2D437D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300D-6F46-4057-AC18-39041C0F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5FD-19E5-4626-B176-7DE9769C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4A1-8763-43FD-8242-CF97E687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FF7-61CE-47BA-8554-853F1595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AD9-419F-4494-A049-F079C44D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EF3A-93A2-442E-BF3D-B20528D3A53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eonatal Thrombocytopen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cie Bennett, M.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st Bay Newborn Speciali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lloimmune Thrombocytopenia (NAI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ually resolves with in 2 wee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t platelet count needs to be followed until normalized and stabl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persists longer may be a different diagnos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itoring for future pregnancies and possibly treatment with maternal IVIG/steroid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ate-Onset Thrombocytopen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ll Appearing:  Sepsis, NEC, IEM (Propionic Acidemia, isovaleric acidemia, methylmalonic acidemia, Gaucher Diseas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ll Appearing:  Drug induced, thrombosis, Fanconi’s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ysical Ex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ll or We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techia, brui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ntonel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ver siz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dominal masses (renal vein thrombos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ysmorphic featur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earm or thumb abnormalities (TAR syndrome or Fanconi anemia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Genetic Disorders Associated With Thrombocytopenia</a:t>
            </a:r>
            <a:br>
              <a:rPr sz="4000"/>
            </a:b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- From Neoreviews 2009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Chromosomal: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isomy 13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lasia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utis, CHD, cleft lip and palate, polydactyly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isomy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8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UGR, CHD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er-bottom feet, overlapping digits,  hypertelorism, smal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uth,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inodactyly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isomy 21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D, single palmar crease, hypotonia, short neck, w/ redundant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sterior fold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urner syndrome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D, cubitus valgus, webbed posterior neck, broad chest , with wide-spaced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ipples,lower extremity edem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1 q terminal disorder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D, GU anomalies,  facial anomalies, abnl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ain imaging, limb anomalie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(Jacobsen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yndrome)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Familial :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y-Hegglin anomaly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iant platelets, neutrophilic inclusion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(Sebastian syndrome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chtner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yndrom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iant platelets, sensorineural hearing loss, cataracts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phritis, neutrophilic inclusion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rnard-Soulier syndrom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emia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enitourinary abnormalities (cryptorchidism)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ngenital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megakaryocytic thrombocytopenia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nl head size and shape, developmenta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lay, CHD, cleft and high-arched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late, abnormal kidneys, optic atrophy, valgus and varus  deformities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ertebral anomalies,coloboma, scoliosis, absent bone marrow megakaryocyte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scott-Aldrich syndrom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mmunodeficiency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mall platelets, eczem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megakaryocytic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rombocytopenia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tricted forearm pronation, proxima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ioulnar synostosis in forearm, and radioulnar synostosis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sent bone marrow megakaryocyte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anconi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emia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ypopigmented and hyperpigmented skin lesions, urinary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act abnormalities,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icrocephaly, upper extremity radial-side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normalities  involving the thumb,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ncytopenia (usually with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nset in childhood)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rombocytopenia and absent radii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hortened/absent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ii bilaterally, nml thumbs, ulnar and hand abnormalities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normalities of the humerus, CHD, eosinophilia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eukemoid reaction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onatal primary hemophagocytic lymphohistiocytosis Fever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SM, hyperferritemia, hypertriglyceridemia, hypofibrinogenemi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Metabolic: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opionic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idemia, methylmalonic acidemia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TT, developmenta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lay, ketoacidosis, hyperglycinemia, hyperammonemi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sovaleric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idemia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dor of sweaty feet, poor feeding, hypotonia, hyperammonemia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tabolic acidosi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aucher diseas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epatosplenomegaly, Gaucher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ells in bone marrow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y doubt repeat sample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Errors from improper collection or unrecognized platelet clumping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lood culture +/- antibiotics depending on history, clinical picture and severit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view peripheral smear and MPV (Jacobsen and Fechtner syndromes present with large platelets and Wiskott-Aldrich syndrome and X-linked thrombocytopenia present with small platelet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ransfuse platelets: (volume reduction not necessary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&lt;30,000- if clinically stable term or preterm &gt; 1 week of age and no IC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&lt;50,000 for ill term infants or preterm infants (&lt;33weeks) in the first week of ag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&lt;100,000 if ICH or signs of active bleedin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Andrew et al 1993 showed preterm infants tx at &lt; 150000 vs &lt;50,000 no differences in freq or severity of ICH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Murray et al 2002 retrospective review no major hemorrhage in infants if platelets &gt;30,000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0-15ml/kg random-donor platele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Either CMV neg or leukoreduced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rradiation to reduce GVHD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atelet transfusions associated with TALI and increased mortality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neonate responds to transfusion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t needs transfusions on a weekly basis more likely due to decreased platelet production (congenital amegakaryocytic thrombocytopenia)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f needed every 1-2 days more likely increased platelet consumptio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axonhouse et al.  Thrombocytopenia in the neonatal intensive care unit. Neoreviews 2009;10;e435-44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oberts et al. Thromboctyopenia in the newborn.  Current opinion in pediatrics 2003; 15:17-2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ola, M. Evaluation and treatment of severe and prolonged thrombocytopenia in neonates.  Clinics in Perinatology 2004; 31; 1-14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oberts et al. Neonatal Thrombocytopenia: causes and management.  Arch Dis Child Fetal Neonatal Ed 2003; 88:F359-364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ndrew et al.  A randomized, controlled trial of platelet transfusions in thrombocytopenic premature infants.  J. Peds 1993;123:285-91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rray et al.  Evaluation and treatment of thrombocytopenia in the neonatal intensive care unit.  Acta Paediatrica Suppl 2002; 91:74-81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rombocytopeni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atelet count &lt;150,000 ( 1-2% of healthy term infant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ild 100-150,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derate 50-99,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re &lt;50,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 Less then 5% of  infants &lt;32 weeks have platelets &lt;104,000 and in late preterm &lt;123,00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cide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~18-32% of infants admitted to NICU develop thrombocytopenia during there sta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frequency in more preterm infa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risk for ICH, mortality, and long term neurodevelopmental disabilit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latelet produc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 step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roduction of Thrombopoietin (Tpo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roliferation of megakaryocytes progenitor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gakaryocyte matur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evelopment and release of new platelet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atelet productions starts at the end of the first trimester of pregnanc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re are measures of platelet production such as serum Tpo or reticulate platelet percentages (RP%) but they are not reliable in infant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fferential Diagno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2"/>
          <p:cNvGraphicFramePr/>
          <p:nvPr/>
        </p:nvGraphicFramePr>
        <p:xfrm>
          <a:off x="0" y="609480"/>
          <a:ext cx="9144000" cy="62485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09480"/>
                    <a:ext cx="9144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arly Onset &lt;72 h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ell Appearing: Most common is autoimmune thrombocytopenia or placenta insufficiency (PIH or chronic HTN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ld to moderate thrombocytopeni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adir on postnatal day 4-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Usually resolves by 7-10 day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severe NAI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ll Appearing:  Sepsis (Bacterial or viral), TORCH, DIC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utoimmune Thrombocytopeni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arly onset,moderate-severe thrombocytopeni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sually a maternal history of ITP or autoimmune disease (2 in 1000 pregnancie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y infant born to a mom with autoimmune disease should have a platelet count (incidence is about 10%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n treat with IVIG for thrombocytopenia, may need platelet transfusio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valuate for ICH (incidence is ~1%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n last from days to month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lloimmune Thrombocytopenia (NAI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re thrombocytopenia (&lt;50,000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creased risk for ICH (Incidence is 8-22%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y present antenatally with ICH, severe hydrocephalus, hydrops fetali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cidence 1 in 1500 pregnanci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ue to maternal Ab to paternal A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n occur in first pregnanc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sting of Mother and Father for Human Platelet antigen (HPA) 1, 3, and 5. (90% of cases 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lloimmune Thrombocytopenia (NAI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f platelets &lt;50,000- Suggest cerebral imaging (US,CT,MRI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ransfuse platelets: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ial of random donor platelets firs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ineffective:  Antigen negative platelets should be used (maternal platelets or known PL A1 or PL A5 negative platelet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onsider IVIG 1g/kg q 24hrs x 2 doses (can be given to help patient increase own platelets or in combination with random donor transfusion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onsider methylprednisolone (1mg/kg q 8hrs) with IVIG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9:25:14Z</dcterms:created>
  <dc:creator>icn</dc:creator>
  <dc:description/>
  <dc:language>en-US</dc:language>
  <cp:lastModifiedBy>stacie</cp:lastModifiedBy>
  <dcterms:modified xsi:type="dcterms:W3CDTF">2010-03-10T04:11:24Z</dcterms:modified>
  <cp:revision>30</cp:revision>
  <dc:subject/>
  <dc:title>Neonatal Thrombocytopenia</dc:title>
</cp:coreProperties>
</file>